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5A2B-AD6F-4440-BBDB-063F352F2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6252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5AA7-4EFF-4017-8DBC-BD34D7921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96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EB30-7020-4F06-BDD6-3A59CC3B6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94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22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94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22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A6F2-8B8E-4982-855C-E1726F6E6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F380-7B5F-494C-B4DA-9E2DF53767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646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6AB7-55A6-4F68-B83D-2D80D5624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46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B896-8D0A-483F-8FA3-45EB84036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9949-43DE-448C-B847-7DA762E7D9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ACBB-43E5-4A83-9E01-9949B0E5F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560" y="252360"/>
            <a:ext cx="796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6D74-A4C4-487A-B1EF-88C1D715B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9320-F2D5-459C-924D-FD8BBD707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646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1BD1-1A5B-4914-9F8B-0379EF6D3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96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C39F-D2CC-4CC1-871B-BACEE319F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B7F7-5D79-4FF5-B4EF-E8C159F2C4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640" y="396252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4F9E-B5E6-4331-8BD9-F1A29B11D9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96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748E-245F-439B-9219-41C5034E4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94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2240" y="175248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6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94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52240" y="3962520"/>
            <a:ext cx="25642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8947-7FFA-493C-A190-CB741284A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46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F8F3-69E6-4BC8-8D88-15438FCEA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8BF7-A8C1-4919-AF89-C34D0F588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EC17-B18B-424D-B5B6-74808A34C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52360"/>
            <a:ext cx="796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5452-0CC0-4DA2-B477-C4E7D64DF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E63C-5504-4381-A276-8B9DC3C80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960" y="396252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E945-EEB0-40F9-A390-B6BC19729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8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62520"/>
            <a:ext cx="7964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3E4D-1300-4AFB-8979-CDEA142DF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52360"/>
            <a:ext cx="796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646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>
              <a:alpha val="50000"/>
            </a:srgbClr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63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78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19447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C716-9813-43F5-9B82-144D8DDA956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3604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887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78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186876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7DF3F8-0DA6-45F6-890E-23D52633DD9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>
              <a:alpha val="50000"/>
            </a:srgbClr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69C3-82BF-437C-93E2-BDEE64DFA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144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86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пидемиологический надзор за энтеровирусной инфекцией, в том числе за энтеровирусными менингитами в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нодарском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авный специалист - эксперт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отдела эпидемиологического надзо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Управления   Роспотребнадзора по Краснодарскому кра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опилина Наталья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7-28 октября 2015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целью осуществления эпид.надзора за ПОЛИО и ЭВИ проводится отбор и исследование на ПОЛИО и ЭВ (неполио) вирусы сточных 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26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2016 год запланировано отобрать - 250 проб сточной вод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русологическим методом исследовано 190 проб сточной воды за 8 месяцев текущего года, в том числе в г. Краснодар – 118, в г-к Анапа – 72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результатам исследований было обнаружено:</a:t>
            </a:r>
            <a:r>
              <a:rPr b="0" lang="ru-RU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1" lang="ru-RU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111111"/>
                </a:solidFill>
                <a:latin typeface="Verdana"/>
              </a:rPr>
              <a:t>- г. Краснодар -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ОСК №1 —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3 — 3 шт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, ОСК №2 -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3 — 3 шт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Коксаки В3 —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1шт.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г. Анапа —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К Сукко -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3 — 3 шт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Коксаки В3 —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1шт.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HO30 – 1 шт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целью недопущения распространения ЭВИ в крае проводится комплекс санитарно-противоэпидемических (профилактических) мероприятий в соответствии с СП 3.1.2950-11 «Профилактика энтеровирусной (неполио) инфекции, МУ 3.1.1.2363-08 «Эпидемиологический надзор и профилактика энтеровирусных (неполио) инфекций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разработан алгоритм действий при регистрации ЭВ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0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действий при выявлении больного энтеровирусной инфекцией (ЭВИ), в том числе энтеровирусным менингитом (ЭВИ),  при подозрении на это заболевание: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 В организованных коллективах (ДДУ, ДОСЛ, пришкольные лагеря, СОШ и др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приостановление работы групп ДДУ или ДДУ в соответствии с приказом департамента образования и науки Краснодарского края или управления образования администрации МО, приостановление занятий в начальных классах в случае ухудшения эпидемиологической ситуации в соответствии с приказом департамента образования и науки Краснодарского края или управления образования администрации МО в течение 20 дней - при регистрации форм ЭВИ с поражением нервной системы, на 10 дней - при регистрации легких форм ЭВ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0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-703440"/>
            <a:ext cx="822636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22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ановление карантина при функционировании учреждения на 10 дней - при регистрации легких форм ЭВИ (при отсутствии явных признаках поражения нервной системы): энтеровирусная лихорадка, эпидемическая миалгия, герпетическая ангина и другие; 20 дней - при регистрации форм ЭВИ с поражением нервной системы; на 10 дней - при регистрации легких форм Э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пределение круга контактн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28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дицинский осмотр всех контактных детей и сотрудников, в том числе сотрудников пищеблока (если общая столовая – детей и сотрудников всего учрежде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28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Проведение ежедневного медицинского наблюдения с внесением результатов осмотра в соответствующие медицинские документы (листы наблюдений) за контактными в течение 10 дней - при регистрации легких форм ЭВИ (без признаков поражения нервной системы); в течение 20 дней - при регистрации форм ЭВИ с поражением нервной системы (при закрытии учреждения или группы на дому; в учреждении при его функционировани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-703440"/>
            <a:ext cx="822636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22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зятие клинического материала для лабораторного исследования на энтеровирусы от всех сотрудников пищеблока, контактных сотрудников, детей с признаками заболевания (фарингиты, ангины, высыпания на теле, в зеве, кишечные расстройства и др.), при отсутствии клинических проявлений заболевания, обследовать 5% здоровых детей от всех контактных (в случае, если учреждение приспособленное, нет изоляции групп общая столовая обследовать 5% от близких контактных лиц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Отстранение от работы персонала и детей от посещения детского учреждения при выделения РНК-энтеровируса на время лечения и до получения отрицательных результатов анализов; допуск осуществлять со справками из лечебно-профилактического учреждения о выздоровлении, лечении, отрицательных результатов анализ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 Запрещение проведение массовых  мероприятий в учрежден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6000" y="-1108080"/>
            <a:ext cx="822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 допускать перевода детей и персонала из группы в другие группы, в другие учреждения; прием новых детей, прием детей из других детских учреждений на период карантина: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Проведение заключительной дезинфекции с использованием дезинфекционных средств, разрешенных к применению в установленном порядке и обладающих вирулицидными свойствами, - в соответствии с инструкцией/методическими указаниями по их применени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проведение текущей дезинфекции при функционировании групп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Проведение в очагах неспецифической экстренной профилактики в виде иммуномодуляторов и противовирусных средств в соответствии с инструкциями по их применению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 Ужесточение в функционирующих группах проведения утреннего фильтр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Рекомендуемый объем лабораторных исследований в очаге энтеровирусной инфекции (ДОУ, ЛОУ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Вода из разводящей сети на соответствие СанПиН, Соli-фаги и энтеровирусы – 2-3 пробы (контактная группа, пищеблок, на вводе в учреждение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ля ЛОУ – вода из мест купания на энтеровирус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 Смывы на БГКП – 20 шт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10 шт.- в карантинной групп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10 шт. – на пищеблок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Пробы готовой пищи- 2-3 для микробиологического исследова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-Дезинфицирующие средства – 1-2 проб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4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5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1280" y="259920"/>
            <a:ext cx="822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домашних очагах ЭВИ, в том числе ЭВМ обеспечить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ое наблюдени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детьми дошкольного возраста и взрослыми из категории лиц, работающих в учреждениях, организациях, характер деятельности которых связан с производством, транспортированием и реализацией пищевых продуктов и питьевой воды, с воспитанием и обучением детей, обслуживанием больных, с коммунальным и бытовым обслуживанием насел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0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рае с 2006 г. введен эпидемиологический надзор за энтеровирусной (неполио) инфекцией, в т.ч. за энтеровирусными менингит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8226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ена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демиологический надзор и профилактика энтеровирусной (неполио) инфекции на 2015-2017гг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да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ановление главного государственного санитарного врача по К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дарскому краю от 22.07.206 г. №1 «Об усилении мероприятий по профилактике энтеровирусной инфекции в эпидсезон 2016 года на территории Краснодарского края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данным Ф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 надзору в сфере защиты прав потребителей и благополучия человека в 2016 год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8226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яде государств европейского и азиатского регионов наблюдается эпидемический подъем заболеваемости энтеровирусной инфекци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блюдается эпидемический подъем заболеваемости энтеровирусной инфекцией, вызванной энтеровирусом 71-го типа в Гонконге, Южной Корее, Сингапуре, Китае, Тайване, северо-восточном регионе Испании-Каталонии.  В эпидемический процесс вовлечены, преимущественно, дети в возрасте от 1 года до 4 лет. Заболевания протекают в тяжелой и среднетяжелой клинических формах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ряде случаев зарегистрированы очаги групповой заболеваемости в дошкольных образовательных учреждениях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2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обходимо отметить, что энтеровирусная инфекция в течение последних лет продолжает сохранять свою актуальность и в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1600" spc="-1" strike="noStrike" u="sng">
                <a:solidFill>
                  <a:srgbClr val="111111"/>
                </a:solidFill>
                <a:uFillTx/>
                <a:latin typeface="Verdana"/>
              </a:rPr>
              <a:t>Согласно форме федерального статистического наблюдения №2</a:t>
            </a:r>
            <a:r>
              <a:rPr b="1" lang="ru-RU" sz="1600" spc="-1" strike="noStrike">
                <a:solidFill>
                  <a:srgbClr val="111111"/>
                </a:solidFill>
                <a:latin typeface="Verdana"/>
              </a:rPr>
              <a:t> «Сведения об инфекционных и паразитарных заболеваниях» </a:t>
            </a:r>
            <a:r>
              <a:rPr b="1" lang="ru-RU" sz="1600" spc="-1" strike="noStrike" u="sng">
                <a:solidFill>
                  <a:srgbClr val="111111"/>
                </a:solidFill>
                <a:uFillTx/>
                <a:latin typeface="Verdana"/>
              </a:rPr>
              <a:t>за 7 месяцев 2016 г. зарегистрирован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111111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ВИ - </a:t>
            </a:r>
            <a:r>
              <a:rPr b="1" lang="ru-RU" sz="1600" spc="-1" strike="noStrike">
                <a:solidFill>
                  <a:srgbClr val="111111"/>
                </a:solidFill>
                <a:latin typeface="Verdana"/>
              </a:rPr>
              <a:t>2606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сл. заболевания , показатель заболеваемости составил 1,78 на 100 тыс. населения, что в 1,7 раз  выше аналогичного периода 2015г.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в т.ч. среди детей - 2323 сл. или 8,28 на 100.т.н.</a:t>
            </a:r>
            <a:r>
              <a:rPr b="1" lang="ru-RU" sz="1600" spc="-1" strike="noStrike" u="sng">
                <a:solidFill>
                  <a:srgbClr val="00cc99"/>
                </a:solidFill>
                <a:uFillTx/>
                <a:latin typeface="Verdana"/>
              </a:rPr>
              <a:t>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ЭВМ — 728 сл. или 0,5 на 100 тыс. населения, что на 40,3%  выше аналогичного периода 2015г.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в т.ч. среди детей - 619 сл. или 2,21 на 100.т.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2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гласно расчетным данным референс-центра по мониторингу за энтеровирусной инфекцией (ФБУН Нижегородский научно-исследовательский институт эпидемиологии и микробиологии им. академика И.Н.Блохиной), в 2016 году, вероятно, ожидается эпидемиологическое неблагополучие в ряде регионов по энтеровирусной инфекции, в т.ч. энтеровирусным менингитом, в период сезонного подъем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им образом, совокупность параметров сезонности, и факторов, детерминирующих эпидемический процесс ЭВИ на территории Российской Федерации, а также ряд прогностических исследований позволяет говорить о вероятном осложнении эпидемиологической ситуац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 ЭВИ в текущем сезон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0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35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раснодарском крае за 8 месяцев 2016 год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26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111111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И - 124 сл. заболевания, показатель заболеваемости составил 2,28 на 100 тыс. населения, что в 3,5 раз  выше аналогичного периода 2015г. (34сл., и.п. 0,64) и выше показателей РФ в 1,3 раза,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т.ч. среди детей — 107 сл. или 10,1 на 100.т.н., что выше аналогичного периода 2015г. в 3,3 раза (31сл., и.п. 3,07) и выше РФ — в 1,2 раза. </a:t>
            </a:r>
            <a:r>
              <a:rPr b="1" lang="ru-RU" sz="1800" spc="-1" strike="noStrike" u="sng">
                <a:solidFill>
                  <a:srgbClr val="ff3333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ff3333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ЭВМ — 81 сл. или 1,29 на 100 тыс. населения, что в 3,6 раза выше аналогичного периода 2015г. (22сл., и.п. 0,41) и выше РФ — в 2,5 раза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т.ч. среди детей - 73 сл. или 6,9 на 100.т.н., что выше аналогичного периода 2015г. в 3,5 раз (20сл., и.п. 1,98) и выше РФ — в 3,1 раза. </a:t>
            </a:r>
            <a:r>
              <a:rPr b="1" lang="ru-RU" sz="1800" spc="-1" strike="noStrike" u="sng">
                <a:solidFill>
                  <a:srgbClr val="ff3333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3333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ля детей больных ЭВМ составляет — 90% от всех заболевш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ди совокупного населения края ЭВМ в структуре заболеваемости ЭВИ составил – 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ди детского населения края ЭВМ в структуре заболеваемости ЭВИ составил – 68,2%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болеваемость ЭВИ регистрировалась в 12 территориях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2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г. Краснодар – 86 сл., .ин.п. на 100 т. н. – 9,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Новороссийск – 4, ин.п. -1,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Крымск – 1, и.п. -0,8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Лабинск – 1 сл.,  ин.п. – 1,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очи – 5 сл.; ин.п. - 0,97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Апшеронскмй -  5 сл., и.п. -5,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Динской – 2 сл., и.п. 1,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Калиниский – 1, ин.п. - 1,9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Красноармейский- 3, ин.п. – 2,9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Тимашевский – 1, ин.п. -0,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Туапсинский — 9 сл, ин.п. – 6,9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ыселковский- 3 сл., и.п. -26,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0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4760" y="1825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се 124 случая (100%) лабораторно подтвержден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26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ом ПЦР 124 с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русологическим — 37с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Всего проведено исследовании вирусологическим методом от 130 человек, из них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т больных - 84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 (64,6%), выделены энтеровирусы от 32 чел.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24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1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ксаки В5 — 1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/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т контактных - 46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 (35,4%), выделены энтеровирусы от 5 чел.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4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Коксаки 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- 1,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 согласованию с референс-центром по мониторингу за ЭВИ ФБУН «Нижегородский научно-исследовательский институт эпидемиологии и микробиологии им. Блохиной» Роспотребнадзора на внутритиповую дифференциацию отправлено 4 пробы ЭВ, выделенные на клеточной культуре RD в материале от больных с диагнозом «Менингит»_ 3 н/т штамма и 1-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CHO3. Результаты генотипирования ЭВ: 2- ECHO30, 1- ECHO3, 1 н/т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chenko IG</cp:lastModifiedBy>
  <dcterms:modified xsi:type="dcterms:W3CDTF">2016-09-15T06:38:56Z</dcterms:modified>
  <cp:revision>119</cp:revision>
  <dc:subject/>
  <dc:title>PowerPoint Presentation</dc:title>
</cp:coreProperties>
</file>