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wmf" ContentType="image/x-wmf"/>
  <Override PartName="/ppt/media/image4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8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2399C-3657-45DE-AA8D-0CB0BCEC5DF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AFA57-EEB9-4582-BB4A-FB58641A4D2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4A24-E2FE-409F-9C27-FD2DAE510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0E44-1C3E-4A53-85A3-FD74476D0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71E3-6CE2-4150-B5BC-83F76CB84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C325-0776-4B65-A8CD-87CAEC07C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C67D-C923-4C06-8D60-0BA444D4E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BFE5-F4D0-444A-940F-E4ED66C99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6E03-DF03-47D0-9762-944511B1A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C685-B455-48A6-8201-16EEB00AB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1A1A-744F-4DC5-A537-447BAB0FF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B538-1C29-416B-9573-1E24F301B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06A0-3C7E-4F3D-BEE2-04BC0FF23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0A6A-31C7-481B-8D50-23A2BA33D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0EEF7-F29A-417D-AF7B-2BE0D522797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hyperlink" Target="http://images.yandex.ru/yandsearch?p=1&amp;text=&#1083;&#1080;&#1093;&#1086;&#1088;&#1072;&#1076;&#1082;&#1072;%20&#1079;&#1072;&#1087;&#1072;&#1076;&#1085;&#1086;&#1075;&#1086;%20&#1085;&#1080;&#1083;&#1072;%20&#1083;&#1077;&#1095;&#1077;&#1085;&#1080;&#1077;&amp;noreask=1&amp;img_url=4medical.in/wp-content/uploads/2012/05/zapadniy-nil-300x225.jpg&amp;pos=43&amp;rpt=simage&amp;lr=237" TargetMode="External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ерозные менинги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евзенко О.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меститель главного врача по организационно-методической работе ГБУЗ «Специализированная клиническая детская инфекционная больниц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304560" y="404640"/>
            <a:ext cx="8458200" cy="645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Arial"/>
              </a:rPr>
              <a:t>Ликво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есцветный, прозрачный, с повышенным давлением, с нормальным числом клеток или лимфоцитарным плеоцитозом до нескольких десятков или сотен клеток в 1 мкл, появление которого м.б. на 7-10 день от начала болезни. В первые дни цитоз м.б. смешанным или нейтрофильным, через 2-3 дня лимфоцитарный. Содержание белка нормальное или снижено, редко повыше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Течение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ычно благоприятное, с выздоровлением без дефекта в 80%. Возможны резидуальные очаговые проявления и летальные исхо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иагностика ЭВ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агноз требует лабораторного подтвержд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русологическое: выделение вируса из биологических жидкостей (СМЖ, кровь,</a:t>
            </a:r>
            <a:r>
              <a:rPr b="1" lang="ru-RU" sz="24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деляемое конъюктивы, мазок отделяемого везикул, биоптаты ткане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рологическое исследование: РН, РСК, РТГА – парные сыворотки с интервалом 10-14 дней (1-я на 4-5-й д.б.), нарастание титра Ат в 4 раза. Обнаружение вируса в фекалиях при отсутствии нарастания титра Ат в динамике не подтверждает диагноз ЭВ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ЦР (СМЖ, кровь, ткан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КГ, КТ и МРТ ГМ, Эхо К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324000" y="243000"/>
            <a:ext cx="8351640" cy="626400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4" descr="http://www.pro-volgograd.ru/contents/modules/_getimgpreview3.php?f=2123123211212.jpg&amp;w=620&amp;h=0&amp;t="/>
          <p:cNvPicPr/>
          <p:nvPr/>
        </p:nvPicPr>
        <p:blipFill>
          <a:blip r:embed="rId2"/>
          <a:stretch/>
        </p:blipFill>
        <p:spPr>
          <a:xfrm>
            <a:off x="7238880" y="0"/>
            <a:ext cx="1905120" cy="175248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5" descr="http://im5-tub-ru.yandex.net/i?id=932513004-32-72&amp;n=2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467480" y="5562720"/>
            <a:ext cx="167652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380520" y="533520"/>
            <a:ext cx="84582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0% случаев инфекции проявляются как острое заболевание с повышением  температур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высокоэндемичных регионах болеют преимущественно дети младшего возраста, в слабоэндемичных – лица старшей возрастной групп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нее чем у 1% инфицированных развивается поражение НС (Э, М, паралич). Тяжелые формы болезни обычно встречаются у детей и пожилых люд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80% инфекция протекает бессимптомно, в т.ч. и в стадии вирем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Рисунок 2" descr="http://www.ecomedufa.ru/uploads/pics/55.jpg"/>
          <p:cNvPicPr/>
          <p:nvPr/>
        </p:nvPicPr>
        <p:blipFill>
          <a:blip r:embed="rId1"/>
          <a:stretch/>
        </p:blipFill>
        <p:spPr>
          <a:xfrm>
            <a:off x="7767720" y="685800"/>
            <a:ext cx="1376280" cy="17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лин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кубационный период – 3-8 дней (2-21 день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чало острое: озноб, лихорадка до 38-40 градусов, выражен интоксикационный синдро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 головная боль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 боль в глазах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 тошнот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 рвот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 миалги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 артралгия (но не артрит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 выраженная слабость (астенический синдром сохраняется длительно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 боль в горл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609480" y="304920"/>
            <a:ext cx="792504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КЛИ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иваются склерит, коньюктивит, фарингит, гепатоспленомегалия; может быть диспепс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отличие от других арбовирусных инфекций, сопровождающихся лихорадкой и миалгией,       для лихорадки Западного Нила характерны *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пятнисто-папулезная сыпь на туловище и *увеличение лимфоузло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Экваториальной Африке заболевание иногда сопровождается некрозом печени, протекает тяжело и заканчивается смертью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должительность лихорадочного периода – от 2-3 до 10-12 су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гемограмме: тенденция к лейкопении и лимфоцитоз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228600" y="609120"/>
            <a:ext cx="861048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Заболевание может протекать в гриппоподобной (53%), менингеальной (38%) и менингоэнцефалитической (9%) форм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В СМЖ: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гипертензия, цитоз 15-2000 кл/мкл, белок 0,45-1,65 г/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МЭ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 имел злокачественное течение: выражена интоксикация с 1-х дней, менингеальный синдром. С 3-4 дня + спутанность сознания, возбуждение, сопор-кома, часто – судороги, мышечный тремор, парезы ног, нистагм, с-мы вовлечения ствола ГМ. Летальность 48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304920" y="1143000"/>
            <a:ext cx="85341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Диагноз ЛЗН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жет быть подтвержден выделением культуры вируса из крови в культуре клеток МК-2 или путем внутримозгового заражения мышей. Возбудитель может быть обнаружен прямым методом флюоресцирующих антите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рологические реакции (РТГА, РСК, РН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ФА  (рекомендуемый диагностический титр Ат класс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g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 1:800 и выше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 наличии ВЛЗН свидетельствует нарастание титра  Ат в 4 раза  при исследовании парных сывороток, взятых с интервалом 7-10 дней, или обнаружение Ат класса IgM, поскольку в эндемичных районах Ат класса IgG могут обнаруживаться у значительной части насел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достатки серологических реакций: значительный процент отрицательных результатов и затруднения при дифференцировке с другими флавирусными инфекциями комплекса японского энцефалита, так как возбудители имеют общие антигены и возможны перекрестные положительные реак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2"/>
          <p:cNvSpPr/>
          <p:nvPr/>
        </p:nvSpPr>
        <p:spPr>
          <a:xfrm>
            <a:off x="2158560" y="304920"/>
            <a:ext cx="568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абораторная диагност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228600" y="304560"/>
            <a:ext cx="86104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одом ранней диагностики (с первого дня болезни) является ПЦР, позволяющая обнаружить специфические фрагменты генома вируса в крови и ЦСЖ, а также в трупном материале. У 50% больных в крови выявляется РНК на 2-й нед (9-11-й день), у 10% - до 21 дн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риппозные менингиты (менингоэнцефалиты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228600" y="685440"/>
            <a:ext cx="86104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астота поражений НС во время эпидемий – 0,3-6,5%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тяжелом и среднетяжелом гриппе в первые 2 дня могут быть симптомы менингизма, обусловленные отеком головного мозга: тошнота, рвота, расстройства сна, менингеальные симптомы, нарушения сознания, психомоторное возбуждение, судорожный синдром.  Дегидратационная терапия приводит к быстрой положительной динами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 и МЭ развивается на 4-6-й день болезни, характеризуется стойкостью и выраженностью симптомов. Обусловлены кровоизлияниями в оболочки мозга и прилежащие к ним участки мозг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вление ликвора высокое, цитоз 11-200 х10(6)/л, белок  0,99-3,3 г/л. Цитоз обусловлен не воспалительным процессом  в оболочках мозга, а их реакцией на выход эритроцитов в СМЖ. При тяжелых МЭ ликвор ксантохромны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ипична диффузность церебральных расстройств на фоне слабо выраженных  менингеальных проявлений. При кровоизлияниях в в-во мозга могут наблюдаться тяжелые очаговые пораж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деновирусные, парагриппозные, РС-вирусные менингиты встречаются очень редк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ревые менингиты и менингоэнцефалиты – крайне редко (0,1-0,6% от всех больных корью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аснушные менингоэнцефалиты – 0,02-0,05% от всех больных краснух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611280" y="115920"/>
            <a:ext cx="828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С Х Е М А   ТЕРАПИИ ЭНЦЕФАЛИТОВ У ДЕТЕЙ (НИИДИ,2000-2009гг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1042920" y="692280"/>
            <a:ext cx="2160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ahoma"/>
              </a:rPr>
              <a:t>ОСТРОЕ ТЕ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4067280" y="692280"/>
            <a:ext cx="4859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ahoma"/>
              </a:rPr>
              <a:t>ПОДОСТРОЕ И ХРОНИЧЕСКОЕ  ТЕ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5"/>
          <p:cNvSpPr/>
          <p:nvPr/>
        </p:nvSpPr>
        <p:spPr>
          <a:xfrm flipH="1">
            <a:off x="1907640" y="549360"/>
            <a:ext cx="57636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6"/>
          <p:cNvSpPr/>
          <p:nvPr/>
        </p:nvSpPr>
        <p:spPr>
          <a:xfrm>
            <a:off x="6372360" y="549360"/>
            <a:ext cx="57600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108000" y="1700280"/>
            <a:ext cx="7189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 эта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971640" y="1197000"/>
            <a:ext cx="7993080" cy="70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Эмпирическая  э т и о т р о п н а я   терап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И В Л  (при нарушении сознания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971640" y="2133720"/>
            <a:ext cx="2663640" cy="119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Пульс-терапия гормон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10-15 мг/кг/сут по преднизолону 3 дн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0"/>
          <p:cNvSpPr/>
          <p:nvPr/>
        </p:nvSpPr>
        <p:spPr>
          <a:xfrm>
            <a:off x="4643280" y="1989000"/>
            <a:ext cx="4248360" cy="1448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Плазмаферез №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Пульс-терапия гормон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10-15 мг/кг/сут по преднизолону 3 дн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3. Внутривенные ИГ (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)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0,4 мг/кг/сут №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1"/>
          <p:cNvSpPr/>
          <p:nvPr/>
        </p:nvSpPr>
        <p:spPr>
          <a:xfrm>
            <a:off x="108000" y="3645000"/>
            <a:ext cx="7189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 эта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2"/>
          <p:cNvSpPr/>
          <p:nvPr/>
        </p:nvSpPr>
        <p:spPr>
          <a:xfrm>
            <a:off x="900000" y="3573360"/>
            <a:ext cx="8136000" cy="119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Ц и т о к и н о т е р а п и 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Ронколейкин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(рекомбинантный ИЛ-2)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-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доза 0,5 мг в сутки в 200-400 мл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aCl 0,9%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ежедневно в течение 3 - 5 дней в зависимости от тяжести состояния 1 раз в сут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3"/>
          <p:cNvSpPr/>
          <p:nvPr/>
        </p:nvSpPr>
        <p:spPr>
          <a:xfrm>
            <a:off x="108000" y="4581360"/>
            <a:ext cx="7189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3 эта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4"/>
          <p:cNvSpPr/>
          <p:nvPr/>
        </p:nvSpPr>
        <p:spPr>
          <a:xfrm>
            <a:off x="900000" y="4653000"/>
            <a:ext cx="8136000" cy="95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Нейрометаболическая терап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Центральный холиномиметик Глиатилин 1 мл/5 мг/сут (50 мг/кг/сут) №10-15, затем внутрь до 1,5-3 мес +нейровитамины (мильгамма, нейромультивит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5"/>
          <p:cNvSpPr/>
          <p:nvPr/>
        </p:nvSpPr>
        <p:spPr>
          <a:xfrm>
            <a:off x="5364000" y="5589720"/>
            <a:ext cx="360072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+ Ипидакрин (нейромидин)в/м5-15 мг/сут №15, затем внутрь 1-3 ме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6"/>
          <p:cNvSpPr/>
          <p:nvPr/>
        </p:nvSpPr>
        <p:spPr>
          <a:xfrm>
            <a:off x="108000" y="5950080"/>
            <a:ext cx="7189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4 эта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7"/>
          <p:cNvSpPr/>
          <p:nvPr/>
        </p:nvSpPr>
        <p:spPr>
          <a:xfrm>
            <a:off x="1042920" y="6165720"/>
            <a:ext cx="78501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Н е й р о п е п т и д 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8"/>
          <p:cNvSpPr/>
          <p:nvPr/>
        </p:nvSpPr>
        <p:spPr>
          <a:xfrm>
            <a:off x="900000" y="6524640"/>
            <a:ext cx="280836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Актовегин в/м 1-5 мл/сут №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9"/>
          <p:cNvSpPr/>
          <p:nvPr/>
        </p:nvSpPr>
        <p:spPr>
          <a:xfrm>
            <a:off x="5508720" y="6543720"/>
            <a:ext cx="35272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Церебролизин в/м  0,1 мл/кг/сут №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229600" cy="113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редства специфической этиопатогенетической терапии вирусных энцефали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0" y="1600200"/>
          <a:ext cx="9144000" cy="4419720"/>
        </p:xfrm>
        <a:graphic>
          <a:graphicData uri="http://schemas.openxmlformats.org/drawingml/2006/table">
            <a:tbl>
              <a:tblPr/>
              <a:tblGrid>
                <a:gridCol w="2124000"/>
                <a:gridCol w="3971880"/>
                <a:gridCol w="30481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Возбудите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Этиотропная терап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тогенетическая терап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ерпес-вирус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ПГ-1, 2; ЦМВ,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ВЗ, ВЭБ, ВГ-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цикловир, Валацикловир, Фоскарнет, Ганцикловир, Видарабин, Противогерпетический иммуноглобулин (цитотект), Цидофовир, Пенциклови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комбинантные интерфероны: Альфаферон, Вэлферон,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оферон-А, Интрон-А, Виферо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рбовирусы: Вирус КЭ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рус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pal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ЛЗ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тивоклещевой ИГ, Рибонуклеаза, Рибавирин, </a:t>
                      </a: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Панари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ибавири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ферон, Реаферон, Неовир, Циклоферон, Амиксин, Ларифан, Амфоглюкамин, Амфотерицин-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редства специфической этиопатогенетической терапии вирусных энцефали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0" y="1341360"/>
          <a:ext cx="9144000" cy="5540400"/>
        </p:xfrm>
        <a:graphic>
          <a:graphicData uri="http://schemas.openxmlformats.org/drawingml/2006/table">
            <a:tbl>
              <a:tblPr/>
              <a:tblGrid>
                <a:gridCol w="2252520"/>
                <a:gridCol w="3843360"/>
                <a:gridCol w="3048120"/>
              </a:tblGrid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Возбудите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Этиотропная терап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тогенетическая терап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нтеро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иовирус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еконари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овир, Циклоферо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рус грипп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мантадин, Ремантадин, Занамавир, Озелтамивир, Рибавири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ьфаферо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рус кор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ибавирин, Изопринози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ртикостероиды (метилпреднизолон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рус краснух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ртикостероиды, Альфаферо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идовудин, Диданозин, Зальцитабин + лечение оппортунистических инфекц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овир, Циклоферо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4"/>
          <p:cNvSpPr/>
          <p:nvPr/>
        </p:nvSpPr>
        <p:spPr>
          <a:xfrm>
            <a:off x="250920" y="533520"/>
            <a:ext cx="8713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пецифическая терапия вирусных нейроинфекций направлена непосредственно на вирион, находящийся в стадии активного размножения и лишенный защитной оболоч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    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Используются ферменты, расщепляющие нуклеиновую кислоту вируса и тормозящие его дальнейшую репликацию. Нуклеазы-ферменты назначают с учетом структуры вирус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Рибонуклеазу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меняют для лечения заболеваний, вызываемых РНК-содержащими вирусами (вирусы эпидемического паротита, энтеровирусы, вирусы гриппа и парагриппа, клещевого энцефалита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Дезоксирибонуклеаза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казана при заболеваниях, вызываемых ДНК-содержащими вирусами (вирус герпеса простого, варицелла-зостер, аденовирусы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27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е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250920" y="558720"/>
            <a:ext cx="864216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кольку нуклеазы-ферменты являются слабы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тигенами-аллергенами,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лечение проводят на фоне применения десенсибилизирующих препаратов: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 30 мин до инъекции нуклеаз вводят димедрол, пипольфен, супрастин, хлорид кальция. Нуклеазы дозируют в зависимости от массы тела (из расчета 0,5 мг на 1 кг), возраста больного и тяжести заболевания. Взрослым больным вводят внутримышечно 180 мг/сут. (по 30 мг 6 раз) до нормализации температуры и далее еще в течение 2 дн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должительность курса 10-14 дней. Улучшают состояние больных повторные люмбальные пункции и препараты, уменьшающие отек мозга и оболоче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значают симптоматические средства (анальгетики, седативные и снотворные препараты), витамины, иммуностимуляторы, общеукрепляющие сред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Object 2"/>
          <p:cNvGraphicFramePr/>
          <p:nvPr/>
        </p:nvGraphicFramePr>
        <p:xfrm>
          <a:off x="1258920" y="1308240"/>
          <a:ext cx="6985080" cy="536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1308240"/>
                    <a:ext cx="6985080" cy="536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Arial"/>
              </a:rPr>
              <a:t>Этиологическая структура серозных менингитов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Классификация вирусных менингитов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(М.В. Сорокина, Н.В. Скрипченко, 200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1. По первичности поражения ЦНС и других органов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первичные (энтеровирусные, хориоменингит Армстронга, герпетический, краснушный, гриппозный, арбовирусный, полиовирусный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вторичные (паротитный, ВИЧ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2. По характеру воспалительного процесса в оболочках и ЦСЖ: серозн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3. По этиологии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нтеровирусный, острый лимфоцитарный хориоменингит, герпетический (ВПГ 1,2 типов, ЭБВ, ветряной оспы, опоясывающего лишая), паротитный, гриппозный, аденовирусный, арбовирусный, коревой, краснушный, ВИЧ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4. По форме: начальный, выраженный</a:t>
            </a: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5. По характеру течения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лниеносное, острое (до 4 нед.), затяжное (до 3 мес.), хроническое (более 3 мес.), рецидивирующее, осложненн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6. По тяжести течения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реднетяжелое, тяжел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7. Осложнени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ЧГ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I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степени, гидроцефальный синдром, диэнцефальный синдр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8. По патогенезу и способу инфицирования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-генерализованные (вирусемия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-трансплацентарные (внутриутробное инфицирование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9. По морфологическому признаку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без вовлечения в процесс вещества головного и спинного мозг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-с вовлечением в процесс вещества мозг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10. По исходу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олное выздоровлен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-выздоровление с остаточными явлени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(церебрастенический, гипертензионны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эпилептиформный синдромы, диэнцефаль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арушения и др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Энтеровирусный менинг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228600" y="691920"/>
            <a:ext cx="861048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пидемиолог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ик заболеваемости асептическими менингитами энтеровирусной этиологии приходится на летне-осенний период, в это время они составляют до 90-95% всех нейроинфекций. Болеют преимущественно дети и лица молодого возраста. Любой энтеровирус может вызвать данную патолог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38088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нтеровирусы – возбудители серозных менингит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ксаки А 2, 4, 9,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ксаки В – все серотип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СНО 1-11, 13-22, 24, 25, 27, 29, 30, 3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нтеровирус – 7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збудители энцефалитов и менингоэнцефалит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ксаки А 2, 7,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ксаки В 2, 3, 4, 5,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СНО 2, 8,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3" descr=""/>
          <p:cNvPicPr/>
          <p:nvPr/>
        </p:nvPicPr>
        <p:blipFill>
          <a:blip r:embed="rId1"/>
          <a:stretch/>
        </p:blipFill>
        <p:spPr>
          <a:xfrm>
            <a:off x="6450120" y="4038480"/>
            <a:ext cx="233208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228240" y="228600"/>
            <a:ext cx="8915400" cy="644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Клиника: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арактерно острое начало с лихорадкой, ознобом, головной болью, светобоязнью, тошнотой и рвотой.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осмотре выявляют менингизм без очаговых неврологических симптомов, сонливость или раздражительность. В некоторых случаях клиническая картина менингита развивается через               несколько дней после выздоровления от лихорад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 На энтеровирусную этиологию менинги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казывают фарингит, кашель, понос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иалгия, сыпь, плевродиния, миокардит, герпангин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арактерно 2-х- 3-х-волновое течение лихорадки 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тервалами 1-5 дн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" descr=""/>
          <p:cNvPicPr/>
          <p:nvPr/>
        </p:nvPicPr>
        <p:blipFill>
          <a:blip r:embed="rId1"/>
          <a:stretch/>
        </p:blipFill>
        <p:spPr>
          <a:xfrm>
            <a:off x="6732720" y="2666880"/>
            <a:ext cx="2411280" cy="195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395280" y="333000"/>
            <a:ext cx="829152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 СМЖ всегда обнаруживается цитоз, в начале заболевания нередко частично или преимущественно нейтрофильный, в связи с чем возникает предположение о бактериальном или каком-либо другом невирусном менингит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течение первых суток заболевания нейтрофильный цитоз сменяется лимфоцитарным и количество клеток не превышает 1000 в мкл. Концентрация глюкозы в СМЖ остается нормальной, содержание белка в норме или слегка повышен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ычно симптомы менингита проходят за неделю, хотя изменения в СМЖ могут сохраняться несколько недель. Прогноз в большинстве случаев благоприятный, неврологические дефекты, как правило, не возникаю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6-09-13T14:51:17Z</dcterms:modified>
  <cp:revision>6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