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C715-E21C-437F-9C84-D49F75F37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5B73-54E8-482C-994E-567183CFBD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154D-87E1-4311-95B4-E17986B782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CC71-93E7-4723-A3D0-B1589F09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740F3-8E9A-4E9C-BB05-F287197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345E-49FA-495A-9826-9CE9AA7C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88848-721E-482D-A6A6-F3850A4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66EB-EC8D-42CE-88CB-DE256C0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F12D1-F3CC-45AC-9A07-F993F18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E6044-6344-4D15-B43D-154479BD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BBA46-52D1-4CF7-A98F-D712523A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B8F5-E679-44D1-A6B8-95C657F2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4458D-A516-4A50-AEDF-E66C2DD3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34F5-56BD-416B-A41C-C039DB12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71541-9AD3-4B83-8A01-EC6AFB5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896F9-66A3-469D-A1D1-6A3DEBA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ECE15-1911-493C-BEE3-7F49C1B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6E633-C747-4B57-8348-0264B72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23E86-890A-4A91-903E-CF72EF76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234C-697B-49AB-862F-A3E3FC9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C957D-01CF-49F9-9791-F055628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60505-302E-439B-8002-D80E9602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0F9F1-ED9E-42DA-B552-A3E28C8B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DEE83-E528-416E-B696-E1C4C6DA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B5406-5641-4895-84A3-61B084D6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292D6-1E88-4DB0-9DAB-D1D51756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E71D-3C07-4CEA-8942-44261FCE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94B14-980D-4982-B505-D12D1461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FDD08-BF6A-4CBA-8B36-62146FDB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2DEBF-4465-476B-81D2-AE331A68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8BB8D-0150-48FB-A95C-FD22F08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A53F3-B101-4610-8122-A2D293C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D882B-D20C-4410-8FB8-523E2BCD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B2D-1A46-4BBC-862C-DCBB9E67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2E993-0F55-451C-B446-43FE20B3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323C4-66D8-4E16-A39B-6AC1AD4D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CC8C9-ACE7-4D39-854A-5272F0D0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22BC4-FAD3-4908-AE3A-9BD583DE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57B5-5D83-449E-85F8-5BAEFA1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A893A-243C-4F2C-AEF4-DE86AFC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F95B-AC45-4F2F-ADD4-8E0A90C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C948A-8AA8-491B-95C3-F0FEBBE9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5E0EB-C9E1-4F5E-AC47-97C1F763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9C9AD-ED4E-4E5A-B707-F8A4413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4D3-6A75-4CDF-A257-8535A60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B68F1-154A-4E42-BB1A-3FAF2A56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68400-3FD7-4601-A61D-BD31167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35CB7-A3BA-4CF1-8C31-3E4EEDC2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79DA-04BB-41B1-9AD0-8C01E4E8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179B-E60A-47D7-8422-ACB78113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45A-0A0E-46E4-843B-44FC36A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745-ED94-4ADC-8250-596D8847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9C0-DC8E-4DF9-BBA3-E0DFDA6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716-BAC0-4AFB-8031-54316819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DE6-C508-414C-A08A-1B49290C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608-72F4-4FEA-8BBD-37DC2BA7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EB6-374F-4E5B-A72A-46A30DF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CC0-F2FB-4644-8A6A-400CF7AE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781-8033-4368-B835-21174D62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ED0-51DA-4912-8C83-9ACAB11C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EED-5CB8-43BB-B846-4B0B47B9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C436-CD34-429A-893F-BEB9750D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416C-566C-4DF7-A381-5CDC566D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F151-7598-4DE1-9223-4707778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56E1-EF4A-416F-9B40-2379A1C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AD05-C5A7-4A9C-8969-96BEA8F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A42-B05E-4789-BE96-30002A3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258-C420-47CB-8565-E133050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48DC-4D5F-41D1-AF70-C24A8E8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C333-F00F-43CD-A767-A4017B38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0570-956E-4499-A550-55A3BD8E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F1F0-FF94-47F0-A52E-792283E8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081B-E448-417C-96B3-F7DB0B50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4792-002F-4170-93E4-E606FA3F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8A08-D3E7-4C82-BB22-D44AC3C9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D3F8-C376-4A7C-8027-0CEDBECD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106F-A77B-48A8-B7BF-A3EF3E5C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71C0-D894-40F2-BB08-993A720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8403-60B7-4FB3-A16C-D8A5FF7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9298-1BFB-4138-9C96-E48A79C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BF0F-BC40-450E-8EF7-FFA633C2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C292-9244-4EFE-8B3A-A658F6F8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D9E2-2C19-4306-983C-BA4C131E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4534-D82A-447D-8612-2F8A2B9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3DED-DBF3-4C3D-B30E-2D444DA0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DBE1-8D4A-4CEA-90F5-AF92E3C3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7691-724A-4717-B354-9989924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2D73-9F82-4674-941E-B9DF00B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14F84-C5EE-437F-ADF9-737C82A8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C6D6-33B5-4922-9AE7-D6FBF2E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1826-4905-4232-9FD7-8B2067C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A40D-7C31-47CD-AB2B-E0656E8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7F4B-B1E4-4692-8E5F-BE8EE77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C9F9-AAC0-4620-BE07-23C8CC2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A96F-8206-4ED5-927F-82BEE3CB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ED96-24E8-43C5-8F6C-08E41425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324F-0C10-40C1-9C30-FAE91BFA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C824-6896-4345-A743-F722A6E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E95A-7F26-4F69-A83F-09D2A5F7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D575-0ADD-47CB-B32E-D6826FC5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3372-37DA-48C1-B5F4-D6F8D9C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EB0B-987D-4F16-B90A-51F8C86C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1932-EE91-49E0-9EF5-E37812E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35667-9905-4B2D-B211-040CFED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BDA5F-1835-427C-AE08-E996CB8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5ED8-FF8E-4ADB-A0DE-2B30AF1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AD37-AC76-4060-9E88-29D4C510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56D5-EF19-43DB-8FE9-2589A49D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1000-473D-4872-8EC8-FF066AB3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89094-3DE4-4788-AD0A-B4E1483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7C22-97D1-4F28-BAAE-0123106F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2E77-D617-4BAF-B41F-A224F7D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D710-6D89-4C31-B46D-83F123FC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335F6-432E-43CF-874F-789A479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CFDD-5F8A-4BFD-AB80-BCEC1A1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8166D-0536-4BE9-A472-F09ED3F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1559-71EB-47AC-9538-7317DB6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A8036-38ED-4FAA-A78C-1209238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8937-67C9-4F73-90D7-F81BFA92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40AA-7662-47F9-8E03-5482D03A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2EE4-6363-408D-A24E-6E5DCC9F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6741-0EAB-48F9-9B75-3FDB923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D995-49C0-481D-9F56-A4CCA44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6E525-E872-48E2-A365-E33D8B74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BAC2-B662-44EA-AB76-92FBFABC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85840" y="274680"/>
            <a:ext cx="8572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0365B-D11C-445B-8A43-F60FED3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300A-3646-48EC-A138-8092735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579A8-00AD-42A3-852F-03E8121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E07A-A2F2-481D-BB76-3E3A523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5840" y="3876480"/>
            <a:ext cx="85723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AFDA-E577-4E2B-BF71-51A41BF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560" y="92880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8584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8560" y="3876480"/>
            <a:ext cx="418320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D658-505A-4332-AB79-27A2609A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8420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82920" y="92880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8584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8420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82920" y="3876480"/>
            <a:ext cx="2760120" cy="26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8E41D-046C-4EFF-BBAA-E77C22D5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4085-A0E5-4AF7-9A9B-E8A88B1F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CC55-BAED-4ADB-BF7B-4DC80CA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840" y="148320"/>
            <a:ext cx="857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F01BE-FACA-428C-8675-948643CB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8F79-F663-44FC-A554-72E8BCC3903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04A-0F7D-41F0-901C-7F62E8557B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3C36-8291-40A0-B950-7A1D5893CD1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1125-42FD-4F47-83C5-E5243881F3F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A54-D772-4413-BF6F-F782DD4C33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B9C-6A87-4F52-8460-8EF55CF77AC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84FA-D773-4EB4-B196-E3EEB4C5A86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670-D843-4282-879F-AA52A53D03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365-893E-4366-B5E5-0ADFE7DB809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92E2-BADB-4469-BB62-9324D29205E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8EF2-5DB7-4065-BFCE-F093CA523AA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3840" y="53640"/>
            <a:ext cx="8750520" cy="34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стерство здравоохранения Краснодарского кра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БУЗ «Специализированная клиническа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ская инфекционная больница»</a:t>
            </a: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блема гриппа и ОРВИ в современных условиях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755640" y="426888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ный врач – Н.Х.Тхакушин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5791320" y="5786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одар, 15.09.201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5840" y="23148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8000" y="-360"/>
            <a:ext cx="47512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ой источник инфекции – больной гриппом человек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ыстрое распространение заболевания в короткие сроки обусловлено коротким инкубационным периодом, воздушно–капельным механизмом передачи, высокой восприимчивостью людей к гриппу, а также отсутствием иммунитета у населения к новым антигенным вариантам вирус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иболее значимыми с эпидемической точки зрения являются многочисленные больные с легкими и стертыми клиническими формами заболева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5" descr="image"/>
          <p:cNvPicPr/>
          <p:nvPr/>
        </p:nvPicPr>
        <p:blipFill>
          <a:blip r:embed="rId1"/>
          <a:stretch/>
        </p:blipFill>
        <p:spPr>
          <a:xfrm>
            <a:off x="4871880" y="264960"/>
            <a:ext cx="3648240" cy="241488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7"/>
          <p:cNvSpPr/>
          <p:nvPr/>
        </p:nvSpPr>
        <p:spPr>
          <a:xfrm>
            <a:off x="5076720" y="2781360"/>
            <a:ext cx="3598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спространение грип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  Аэрозоль из органов дых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шел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ихание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з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 Касание контаминированных объектов, людей, самозаражение собственными руками с последующим касанием носа и глаз немытыми ру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tle 1"/>
          <p:cNvSpPr/>
          <p:nvPr/>
        </p:nvSpPr>
        <p:spPr>
          <a:xfrm>
            <a:off x="339840" y="750960"/>
            <a:ext cx="38574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атогенез 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4773600" y="950760"/>
            <a:ext cx="416880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9440" indent="-379440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Courier New"/>
              <a:buChar char="o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Вирус попадает в респираторный тракт → в кровь → поражает другие клетки → появляются симптом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Courier New"/>
              <a:buChar char="o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Через 8 час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ов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количество вирусных частиц достигает 10³, а концу первых суток – 10²³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Высок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скорость р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епликации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объясняет короткий инкубационный период – 1-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суток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Courier New"/>
              <a:buChar char="o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прикрепляются к клетке при помощи гемагглютинин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Courier New"/>
              <a:buChar char="o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леточная мембрана разрушается под действием нейраминидазы, вирусная РНК проникает в клеточное ядро и клетка начинает производить вирусные белк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Courier New"/>
              <a:buChar char="o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активирует систему протеолиза, повреждает эндотелий капилляров, повышается проницаемость сосудов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25"/>
              </a:spcBef>
              <a:buClr>
                <a:srgbClr val="800000"/>
              </a:buClr>
              <a:buSzPct val="150000"/>
              <a:buFont typeface="Courier New"/>
              <a:buChar char="o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угнетает кроветворение, иммунную систему → развивается лейкопения → присоединяются осложне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-3240" y="1771560"/>
            <a:ext cx="46814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линика 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ШИФРЫ МКБ -10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J10  Грипп, вызванный идентифицированным вирусом грип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J10.0 Грипп с пневмонией, вирус гриппа идентифицирова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J10.1 Грипп с другими респираторными проявлениями, вирус гриппа идентифицирова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10.8 Грипп с другими проявлениями, вирус гриппа идентифицирова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J11 Грипп, вирус не идентифиц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J11.0 Грипп с пневмонией, вирус не идентифицирова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J11.1 Грипп с другими проявлениями, вирус не идентифицирова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J11.8 Грипп с другими проявлениями, вирус не идентифицирова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линические особенности пандемического грипп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/H1N1 2009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 сравнению с сезон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ный риск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тяж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чаев заболевания среди ранее здоровых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молод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 ожирением и берем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худшение состояния через 3 – 5 дн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начала заболе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Быстр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темп развития острой дыхательной недостаточ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2"/>
          <p:cNvSpPr txBox="1"/>
          <p:nvPr/>
        </p:nvSpPr>
        <p:spPr>
          <a:xfrm>
            <a:off x="2484360" y="260280"/>
            <a:ext cx="3905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линика грипп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538" name="WordArt 3"/>
          <p:cNvSpPr txBox="1"/>
          <p:nvPr/>
        </p:nvSpPr>
        <p:spPr>
          <a:xfrm>
            <a:off x="304920" y="1066680"/>
            <a:ext cx="20095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лихорадка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666880" y="914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игает своего максимума (39-40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) уже в первые часы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WordArt 5"/>
          <p:cNvSpPr txBox="1"/>
          <p:nvPr/>
        </p:nvSpPr>
        <p:spPr>
          <a:xfrm>
            <a:off x="179280" y="1989000"/>
            <a:ext cx="25909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нтоксикация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2843280" y="170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ается в ознобе, сильной головной боли, миалгии, артралгии, выраженной слаб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WordArt 7"/>
          <p:cNvSpPr txBox="1"/>
          <p:nvPr/>
        </p:nvSpPr>
        <p:spPr>
          <a:xfrm>
            <a:off x="250920" y="2924280"/>
            <a:ext cx="8458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зменения со стороны сердечно - сосудистой системы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228600" y="3429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нижение артериального давления, приглушенность сердечных тонов с нежным систолическим шумом на верхушке, брадикардия (40 % больны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WordArt 9"/>
          <p:cNvSpPr txBox="1"/>
          <p:nvPr/>
        </p:nvSpPr>
        <p:spPr>
          <a:xfrm>
            <a:off x="304920" y="4191120"/>
            <a:ext cx="61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поражения органов дыхани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228600" y="4572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таральные явления, гиперемия слизистой оболочки носовых ходов, кашель (86-90 % больных), усиление сосудистого рисунка лег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WordArt 11"/>
          <p:cNvSpPr txBox="1"/>
          <p:nvPr/>
        </p:nvSpPr>
        <p:spPr>
          <a:xfrm>
            <a:off x="324000" y="5300640"/>
            <a:ext cx="67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расстройства нервной системы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380880" y="5867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ушение сознания различной степени выраж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6002280" y="62373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вота и диар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акторы риска возникновения тяжелого и осложненного гриппа А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1N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ца пожилого возра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Беременные женщ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ца с хронической сердечно-сосудистой и бронхо-легочной патологией, сахарным диабет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ти первых 3-х лет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85840" y="115920"/>
            <a:ext cx="857232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Клиника гриппа у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000" y="475920"/>
            <a:ext cx="8928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егкая форма гриппа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 легким относятся и стертые формы гриппа, протекающие при нормальной температуре тела и отсутствии каких-либо симптомов интоксикации. У ребенка при этом могут быть выражены только катаральные явления: насморк, покашливание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и среднетяжелой форме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лицо все признаки гриппозной интоксикации: озноб, головная боль, головокружение, мышечные и суставные боли. Температура тела поднимается до 39,5°С. При наслоении вторичной микробной флоры может возникнуть сегментарная пневмо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и тяжелой форме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меются еще более выраженные признаки гриппозной интоксикацией: затемненное сознание, бред, галлюцинации, рвота, кратковременные судороги, повышение температуры тела до 40 — 40,5°С. Возможны тяжелые бактериальные осложнения, а так же нарушения сердечно-сосудистой деятельности, геморрагический отек легкого, гнойно-некротический ларинготрахеобронхит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ля гипертоксической формы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арактерны менингоэнцефаличес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ий, геморрагический и гипертермический синдро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25200" y="18864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линические особенности у детей младшего возра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28400" y="1714320"/>
            <a:ext cx="821844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Дети младше 5 лет и дети из группы риска подвержены высокому риску осложнений, связанных с грипп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Менее вероятно, что они будут иметь типичные признаки гриппа (лихорадка + кашел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Возможно у младенцев будет лихорадка с вялостью, без кашля и других респираторных синдромов и призна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Дети до 1 года более подвержены риску осложнений (чаще развивается сопутствующая инфекци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. aureu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МПТОМЫ ТРЕВОГИ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хранение повышенной температуры тела (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ее 37,5 °C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е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7 дней, а также её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торное повыш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ая головная боль, особенно с рвотой и светобоязнью (непереносимость яркого све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нливость либо спутанность сознания, бре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гидность затылочных мышц и/или другие симптомы мышечной ригид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ышка (затруднённое дыха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 в груди, особенно усиливающаяся при дых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вянистый характер мокр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юбая сып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ение боли в ухе и в области придаточных пазух нос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388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линические критерии тяжелой формы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болевания (обязательна срочная госпитализация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овышение температуры тела выше 39ºС при выраженном нарушении самочувств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Одышка (при движении или в покое), затрудненное дыхание, цианоз,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и возможности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пульсоксиметрии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атурация кислорода ниже 90%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Тахикардия, приглушенность (глухость) сердечных тонов, пульс слабого наполнения и напряжения, снижение АД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нижение диуреза, отсутствие мочеиспускания более 4-х часов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Рабдомиолиз (выраженные болевые ощущения в мышцах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путанность сознания, возбуждение, делирий, судорог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!!!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 Особо настораживающая симптоматика, требующая проведения интенсивной терапии в условиях ОРИТ: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овохарканье, боль в груди, резко выраженная одышка, судороги, нарушение сознания, снижение сатурации кислорода ниже 9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рипп и острые респираторные вирусные инфекции (ОРВИ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таются одной из самых актуальных проблем здравоохранения в нашей стране: на их долю приходится около 90% всей инфекционной заболеваем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РВИ вызывают вирус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гриппа (в особенности 3 тип), респираторно–синцитиальные вирусы, аденовирусы, риновирусы, реовирусы и др. –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сего более 200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будите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0" name="Объект 1"/>
          <p:cNvGraphicFramePr/>
          <p:nvPr/>
        </p:nvGraphicFramePr>
        <p:xfrm>
          <a:off x="468360" y="3427560"/>
          <a:ext cx="496728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27560"/>
                    <a:ext cx="496728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3"/>
          <p:cNvSpPr/>
          <p:nvPr/>
        </p:nvSpPr>
        <p:spPr>
          <a:xfrm>
            <a:off x="6227640" y="5300640"/>
            <a:ext cx="2737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Comic Sans MS"/>
              </a:rPr>
              <a:t>А.А. Зайцев, О.И. Клочков, А.В. Горе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Comic Sans MS"/>
              </a:rPr>
              <a:t>Вестник семейной медицины, №5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3"/>
          <a:stretch/>
        </p:blipFill>
        <p:spPr>
          <a:xfrm>
            <a:off x="6696000" y="2997360"/>
            <a:ext cx="1800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25200" y="18864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линические симптомы возможного осложнения у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25200" y="184464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душь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чащенное дых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иан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езвожив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рушение созн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резвычайная раздражитель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25200" y="-360"/>
            <a:ext cx="8218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Осложнения грип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14200" y="714240"/>
            <a:ext cx="878688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Инфекционно-токсическая (гипоксическая) энцефалопатия (нейротоксикоз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Острый респираторный дистресс-синдром (ОРДС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Синдром Гассера (ГУС с развитием ДН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Синдром Рея (токсическая энцефалопатия с жировой дегенерацией печени, острая печеночная недостаточность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Миокардит и синдром Кишша (острая коронарная недостаточность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Синдром Уотерхауза-Фридериксена (острая надпочечниковая недостаточность, адреналовый геморрагический синдром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Синдром диссеминированного внутрисосудистого свертывания (ДВС-синдром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Рабдомиолиз (массивное поражение поперечно-полосатых  мышц, развитие массивной миоглобинурии и почечной недостаточности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Тромбоэмболия легочной артерии (у детей крайне редко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Поражение респираторного тракта – острый стенозирующий ларинготрахеит, острый бронхит, острая пневмони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Поражение нервной системы – невриты лицевого и тройничного нервов, менингиты, энцефалит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Поражение ЛОР-органов – отиты, евстахеиты, синуситы, тонзилли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5840" y="7992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85840" y="333360"/>
            <a:ext cx="857232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Осложнения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гут возникать в любые сроки от начала болезни. Наиболее частыми из них, особенно у детей раннего возраста, являются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титы, воспаление придаточных пазух, гнойный ларинготрахеобронхит, очаговая или сегментарная пневмони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се эти осложнения возникают при наслоении на вирусную гриппозную инфекцию бактериальной флор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собенно тяжело, длительно и волнообразно протекают ларинготрахеобронхиты у детей раннего возраста, клинически проявляющиеся синдромом крупа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аговые пневмонии при гриппе также всегда обусловлены присоединением бактериальной инфек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еврологических осложнений могут быть менингит, менингоэнцефалиты и энцефалиты, реже — невралгии, невриты, полирадикулоневриты. Осложнения со стороны центральной нервной системы возникают на высоте гриппозной интоксикации и чаще у детей младшего возраста. Клинически они проявляются тяжелым общим состоянием, общемозговыми проявлениями, очаговой неврологической симптоматико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 стороны сердца в остром периоде гриппа на высоте токсикоза могут возникать функциональные нарушения, которые быстро исчезают по мере выздоровления. Реже возникает миокард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риппозная пневмо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ервична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 тип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невмония первых двух дней болезни. Этиология вирусная (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1N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дром повреждения легочной ткани, трансформирующийся в респираторный дистресс-синдр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ажение альвеол в базальных отделах легки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ное поражение сосу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трая дыхательная недостаточ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риппозная пневмо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вторична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723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 тип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невмония конца первой – начала второй недели болезни. Этиология вирусно-бактериальная (стрептококк, стафилококк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 тип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невмония после 14-го дня болезни. Этиология – грамотрицательная фл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85840" y="7992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87280" y="214200"/>
            <a:ext cx="8856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рожденный грип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ажение плода может произойти не только за счет непосредственного действия вируса гриппа, но также вследствие выраженного токсикоза, гипоксии, влияния токсических метаболитов нарушенного обмена веществ, водно-электролитных сдвигов, нарушения равновесия кислот и основа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инфицировании женщины в первом триместре беременности увеличивается в 2 — 5 раз частота самопроизвольных абортов, мертворождений и врожденных урод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заболевании беременной женщины гриппом непосредственно перед родами ребенок может появиться с признаками врожденной инфекции. Вероятность врожденного заболевания в этих случаях достигает 50%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иника врожденного гриппа мало чем отличается от гриппа у новорожденных с постнатальным инфицированием. Заболевание протекает без признаков гриппозной интоксикации, часто при нормальной или субфебрильной температуре тела. Отмечаются умеренно выраженные катаральные явления. Часто возникают врожденные пневмонии и геморрагический синдром. Течение болезни, как правило, отягощение наслоением бактериальной инфекции, что ухудшает прогноз. У некоторых новорожденных заболевание сопровождается отеком и параличом дыхательного цент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оказания к госпитализации детей при гриппе и ОРВ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Тяжелые формы болезни и развитие осложнен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озраст детей до 1 года жизни независимо от степени тяжести заболева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Стеноз гортани независимо от степени выражен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. Проживание в закрытых детских учреждениях и неблагоприятных социально-бытовых условия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85840" y="-100080"/>
            <a:ext cx="857232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абораторная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иагностика 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85840" y="549360"/>
            <a:ext cx="85723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спресс-метод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наружение антигена вируса в мазках-отпечатках со слизистой оболочки носоглотки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етод имунофлюоресцирующих антител (МИ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ммуноферментный анализ (ИФ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наружение РНК вируса гриппа в мазках из носа и ротоглотки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- метод ПЦ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угие метод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ение наличия антител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вирусу грипп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ерологические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(РСК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РТГ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ение культуры вируса (из крови, носоглоточной слизи) –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ирусологический метод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заражение культуры ткани или куриного эмбриона для ретроспективной диагностики, идентификации циркулирующих штаммов, прогнозирования заболеваемости и производства на этой основе вакц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85840" y="42840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Дифференциальный диагноз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В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иккетсиозы (сыпной тиф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рюшной тиф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нитоз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гионеллез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руцеллез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лептоспироз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еморрагические лихорад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екционный мононуклеоз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ляр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ейроинфекции (менингококковая инфекция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русный гепатит А (в преджелтушном периоде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невмон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пси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 Black"/>
                <a:ea typeface="Arial"/>
              </a:rPr>
              <a:t>Общие принципы лечения гриппа и других ОРВИ</a:t>
            </a:r>
            <a:br>
              <a:rPr sz="36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4000" y="1628640"/>
            <a:ext cx="7905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eef4"/>
                </a:solidFill>
                <a:latin typeface="Times New Roman"/>
              </a:rPr>
              <a:t>ОГРАНИЧЕНИЕ ФИЗИЧЕСКОЙ АКТИВ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eef4"/>
                </a:solidFill>
                <a:latin typeface="Times New Roman"/>
              </a:rPr>
              <a:t>ОБИЛЬНОЕ ПИТЬ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eef4"/>
                </a:solidFill>
                <a:latin typeface="Times New Roman"/>
              </a:rPr>
              <a:t>ФАРМАКОЛОГИЧЕСКАЯ ТЕРАП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eef4"/>
                </a:solidFill>
                <a:latin typeface="Times New Roman"/>
              </a:rPr>
              <a:t>Этиотропная противовирусная терап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eef4"/>
                </a:solidFill>
                <a:latin typeface="Times New Roman"/>
              </a:rPr>
              <a:t>Симптоматическая терап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dbeef4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ef4"/>
                </a:solidFill>
                <a:latin typeface="Times New Roman"/>
              </a:rPr>
              <a:t>Жаропонижающие средст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dbeef4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ef4"/>
                </a:solidFill>
                <a:latin typeface="Times New Roman"/>
              </a:rPr>
              <a:t>Сосудосуживающие средст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dbeef4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ef4"/>
                </a:solidFill>
                <a:latin typeface="Times New Roman"/>
              </a:rPr>
              <a:t>Противокашлевые средст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eef4"/>
                </a:solidFill>
                <a:latin typeface="Times New Roman"/>
              </a:rPr>
              <a:t>Общеукрепляющие средст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dbeef4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ef4"/>
                </a:solidFill>
                <a:latin typeface="Times New Roman"/>
              </a:rPr>
              <a:t>Адаптоген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dbeef4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ef4"/>
                </a:solidFill>
                <a:latin typeface="Times New Roman"/>
              </a:rPr>
              <a:t>Витамин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550"/>
              </a:spcBef>
              <a:buClr>
                <a:srgbClr val="dbe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440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возбудители респираторных-вирусных инфек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теровирусная инфекция – Коксаки (6 типов), ЕСНО (34 тип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еновирусная инфекция  - (3,4,7,8,14,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грипп – парамиксовирусы (1-4 тип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новирусная инфекция –риновирусы Н,М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icornaviri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С – инфекция парамиксовирусы (род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amyxviri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3"/>
          <p:cNvSpPr/>
          <p:nvPr/>
        </p:nvSpPr>
        <p:spPr>
          <a:xfrm>
            <a:off x="395280" y="333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c000"/>
                </a:solidFill>
                <a:latin typeface="Arial Black"/>
              </a:rPr>
              <a:t>Этиотропные противовирусные препарат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395280" y="1700280"/>
          <a:ext cx="6769080" cy="4816440"/>
        </p:xfrm>
        <a:graphic>
          <a:graphicData uri="http://schemas.openxmlformats.org/drawingml/2006/table">
            <a:tbl>
              <a:tblPr/>
              <a:tblGrid>
                <a:gridCol w="1951200"/>
                <a:gridCol w="1842840"/>
                <a:gridCol w="297504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лас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иш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епар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аторы М</a:t>
                      </a:r>
                      <a:r>
                        <a:rPr b="0" lang="ru-RU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аналов 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ные каналы М</a:t>
                      </a:r>
                      <a:r>
                        <a:rPr b="0" lang="ru-RU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антад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мантади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вир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гибиторы  нейраминидаз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параты первой линии, рекомендуемые ВОЗ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3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рмент нейраминид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ельтамивир (Тамифлю)                                                        Занамивир (Релен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амив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гибитор слияния (фузии)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магглютин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бидол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®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1" name="Picture 4" descr="http://eskulapfarm.ru/dataFiles/Tamiflu_2.jpg"/>
          <p:cNvPicPr/>
          <p:nvPr/>
        </p:nvPicPr>
        <p:blipFill>
          <a:blip r:embed="rId1"/>
          <a:stretch/>
        </p:blipFill>
        <p:spPr>
          <a:xfrm>
            <a:off x="7164360" y="3357720"/>
            <a:ext cx="1655640" cy="171288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6"/>
          <p:cNvSpPr/>
          <p:nvPr/>
        </p:nvSpPr>
        <p:spPr>
          <a:xfrm>
            <a:off x="77760" y="-700200"/>
            <a:ext cx="1467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7776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Рисунок 10" descr="ремантадин.bmp"/>
          <p:cNvPicPr/>
          <p:nvPr/>
        </p:nvPicPr>
        <p:blipFill>
          <a:blip r:embed="rId2"/>
          <a:stretch/>
        </p:blipFill>
        <p:spPr>
          <a:xfrm>
            <a:off x="7164360" y="170028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11" descr="meds_ed02_mp0060.bmp"/>
          <p:cNvPicPr/>
          <p:nvPr/>
        </p:nvPicPr>
        <p:blipFill>
          <a:blip r:embed="rId3"/>
          <a:srcRect l="21653" t="30915" r="22835" b="15917"/>
          <a:stretch/>
        </p:blipFill>
        <p:spPr>
          <a:xfrm>
            <a:off x="7164360" y="5013360"/>
            <a:ext cx="16556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ная противовирусная терапия гриппа (первые 48 час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40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При грипп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зельтамивир (тамифлю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намивир (реленз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рбид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чение гриппа у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о 1 г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иппферон, вифер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анаферон детский (с 2 мес), эргоферон (с 6 мес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-2 г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орвирем, тамифлю,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иппферон, вифер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анаферон детский, эргофер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-5 лет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арбидол (сироп, таблетки), орвирем,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амифл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иппферон, вифер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анаферон детский, эргофер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5 лет – реленза, арбидол (сироп, таблетки), орвирем,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амифл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иппферон, вифер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анаферон детский, эргофер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риппфе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 рождения до 1 г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о 1 капле в каждый носовой ход 5 раз в ден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-3 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по 2 капли в каждый носовой ход 3-4 раза в ден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-14 лет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о 2 капли в каждый носовой ход 4-5 раз в ден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арше 14 лет и взрослым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о 3 капли в каждый носовой ход 5-6 раз в ден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вирем (сироп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1 г до 3 л  в 1-й день по 10 мл 3 раза в день, во 2-3-й дни по 10 мл 2 раза в день, на 4-й день – по 10 мл 1 раза в ден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3 г до 7 л  в 1-й день по 15 мл 3 раза в день, во 2-3-й дни по 15 мл 2 раза в день, на 4-й день – по 15 мл 1 раза в ден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бид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ют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2 лет (сироп), с 3 лет в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утрь (таблетки, капсулы) до приема пищ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зовая доз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тям от 2 до 6 лет – по 50 мг 4 раза в день 5 дн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 6 до 12 лет – по 100 мг 4 раза в день 5 дн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ше 12 лет – по 200 мг 4 раза в день в течение 5 дн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амифл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ям старше 1 года суспензия для приёма внутр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етям весом менее 15 к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назначают по 30 мг 2 раза в сутки 5 дн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етям весом 15-23 к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- по 45 мг 2 раза в сутки 5 дн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етям весом 23-40 к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- по 60 мг 2 раза в сутки 5 дн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етям более 40 к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- по 75 мг 2 раза в сутки 5 дне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ям старше 12 лет – по 75 мг 2 раза в сутки 5 дн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е схемы лечения 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ля детей до 1 г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анаферон, эргофер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четании 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ппферон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ферон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тибактериальная терап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зрастных дозиров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ля детей от 1 г до 3 ле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орвир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сочетании 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ргоферон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обязательно с первого дня антибактериальный препара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прак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возрастных дозиров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тарше 3 ле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тамифлю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четании 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рбидол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антибактериальный препара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пракс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первых суток в возрастных дозиров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85840" y="18468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екомендации ВОЗ (201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рещается использовать салицилаты (аспирин и аспиринсодержащие препараты) детям  (от 0 до 17 лет включительно ) вследствие риска развития синдрома Рей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арацетамол (ацетаминофен) можно назначать перорально или в суппозитори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оказания для назначения </a:t>
            </a:r>
            <a:r>
              <a:rPr b="0" lang="ru-RU" sz="3500" spc="-1" strike="noStrike">
                <a:solidFill>
                  <a:srgbClr val="009900"/>
                </a:solidFill>
                <a:latin typeface="Arial"/>
              </a:rPr>
              <a:t>антибиотиков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при ОРВ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аличие бактериальных осложнений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аличие и обострение хронических очагов инфекции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ети  раннего возраста  </a:t>
            </a:r>
            <a:r>
              <a:rPr b="0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только при тяжелых формах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грипп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468360" y="189000"/>
            <a:ext cx="83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Этиология расшифрованных острых респираторных заболеваний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(Аралова Е. В., 2010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214200" y="1571760"/>
            <a:ext cx="8556840" cy="5033880"/>
            <a:chOff x="214200" y="1571760"/>
            <a:chExt cx="8556840" cy="5033880"/>
          </a:xfrm>
        </p:grpSpPr>
        <p:graphicFrame>
          <p:nvGraphicFramePr>
            <p:cNvPr id="508" name="Object 4"/>
            <p:cNvGraphicFramePr/>
            <p:nvPr/>
          </p:nvGraphicFramePr>
          <p:xfrm>
            <a:off x="214200" y="1571760"/>
            <a:ext cx="8520120" cy="49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200" y="1571760"/>
                      <a:ext cx="8520120" cy="49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0" name="Text Box 5"/>
            <p:cNvSpPr/>
            <p:nvPr/>
          </p:nvSpPr>
          <p:spPr>
            <a:xfrm>
              <a:off x="250920" y="1628640"/>
              <a:ext cx="8520120" cy="49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Text Box 6"/>
          <p:cNvSpPr/>
          <p:nvPr/>
        </p:nvSpPr>
        <p:spPr>
          <a:xfrm>
            <a:off x="1810080" y="5661000"/>
            <a:ext cx="62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Microsoft YaHei"/>
              </a:rPr>
              <a:t>Не расшифрованными остается 68-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840" y="-3672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филакти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иппа сводится к изоляции больных, расширению врачебной помощи на дому при появлении эпидемических вспышек, ограничению посещений заболевшими поликлиник и апт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ремя эпидемических вспышек в стационарах отменяют посещения больных родственниками, ограничивают посещение детьми зрелищных мероприятий. Окружающие больного лица должны носить 4-слойные марлевые повязки (маски) как в больницах, так и в домашних услови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5840" y="231480"/>
            <a:ext cx="8572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0920" y="549360"/>
            <a:ext cx="857232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акцинопрофилактик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наиболее эффективное средство борьбы с гриппом. Целью ее является не только ограничение распространения инфекции, но и в большей степени индивидуальная защита лиц с высоким риском неблагоприятных последствий заболевания и профессиональным риском зараж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684360" y="55134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 ЗА 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2" descr="C:\Users\Виктор\Desktop\!!!мои документы\Рисунки\Времена года\зима\Якутская тайга.jpg"/>
          <p:cNvPicPr/>
          <p:nvPr/>
        </p:nvPicPr>
        <p:blipFill>
          <a:blip r:embed="rId1"/>
          <a:stretch/>
        </p:blipFill>
        <p:spPr>
          <a:xfrm>
            <a:off x="571680" y="642960"/>
            <a:ext cx="81435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РУС ГРИП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57120" y="1206000"/>
            <a:ext cx="77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йство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Orthomyxovirid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fluenza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J:\gripp белок вируса гриппа.jpg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"/>
          <p:cNvSpPr/>
          <p:nvPr/>
        </p:nvSpPr>
        <p:spPr>
          <a:xfrm>
            <a:off x="5513400" y="214200"/>
            <a:ext cx="3559320" cy="65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9440" indent="-379440" algn="ctr">
              <a:lnSpc>
                <a:spcPct val="90000"/>
              </a:lnSpc>
              <a:spcBef>
                <a:spcPts val="1125"/>
              </a:spcBef>
              <a:buClr>
                <a:srgbClr val="ff3399"/>
              </a:buClr>
              <a:buSzPct val="150000"/>
              <a:buFont typeface="Wingdings" charset="2"/>
              <a:buChar char="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рхности вирус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ипп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спределены поверхностные антигены, ответственные за прикрепление вируса к поверхности кле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 algn="ctr">
              <a:lnSpc>
                <a:spcPct val="90000"/>
              </a:lnSpc>
              <a:spcBef>
                <a:spcPts val="1125"/>
              </a:spcBef>
              <a:buClr>
                <a:srgbClr val="ff3399"/>
              </a:buClr>
              <a:buSzPct val="150000"/>
              <a:buFont typeface="Wingdings" charset="2"/>
              <a:buChar char="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жественные подтипы гриппа A отличаются по сочетанию двух поверхностных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о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379440" algn="ctr">
              <a:lnSpc>
                <a:spcPct val="90000"/>
              </a:lnSpc>
              <a:spcBef>
                <a:spcPts val="275"/>
              </a:spcBef>
              <a:buClr>
                <a:srgbClr val="ff3399"/>
              </a:buClr>
              <a:buSzPct val="150000"/>
              <a:buFont typeface="Wingdings" charset="2"/>
              <a:buChar char="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магглютинин (H) = 16 тип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379440" algn="ctr">
              <a:lnSpc>
                <a:spcPct val="90000"/>
              </a:lnSpc>
              <a:spcBef>
                <a:spcPts val="275"/>
              </a:spcBef>
              <a:buClr>
                <a:srgbClr val="ff3399"/>
              </a:buClr>
              <a:buSzPct val="150000"/>
              <a:buFont typeface="Wingdings" charset="2"/>
              <a:buChar char="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йраминидаза (N) = 9 тип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 algn="ctr">
              <a:lnSpc>
                <a:spcPct val="90000"/>
              </a:lnSpc>
              <a:spcBef>
                <a:spcPts val="1125"/>
              </a:spcBef>
              <a:buClr>
                <a:srgbClr val="ff3399"/>
              </a:buClr>
              <a:buSzPct val="150000"/>
              <a:buFont typeface="Wingdings" charset="2"/>
              <a:buChar char=""/>
              <a:tabLst>
                <a:tab algn="l" pos="250920"/>
                <a:tab algn="l" pos="504720"/>
                <a:tab algn="l" pos="758880"/>
                <a:tab algn="l" pos="1011240"/>
                <a:tab algn="l" pos="1263600"/>
                <a:tab algn="l" pos="1517760"/>
                <a:tab algn="l" pos="1770120"/>
                <a:tab algn="l" pos="2023920"/>
                <a:tab algn="l" pos="2276640"/>
                <a:tab algn="l" pos="2529000"/>
                <a:tab algn="l" pos="27828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рхностные структуры меняются очень быстро, что обусловливает крайнюю высокую изменчивость вируса грип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5" descr="C:\Documents and Settings\Admin\Рабочий стол\Grypp_ru2.gif"/>
          <p:cNvPicPr/>
          <p:nvPr/>
        </p:nvPicPr>
        <p:blipFill>
          <a:blip r:embed="rId1"/>
          <a:stretch/>
        </p:blipFill>
        <p:spPr>
          <a:xfrm>
            <a:off x="71280" y="1571760"/>
            <a:ext cx="5500800" cy="50004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3"/>
          <p:cNvSpPr/>
          <p:nvPr/>
        </p:nvSpPr>
        <p:spPr>
          <a:xfrm>
            <a:off x="214200" y="35712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рус гри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>
                <a:solidFill>
                  <a:srgbClr val="66ff66"/>
                </a:solidFill>
                <a:latin typeface="Tahoma"/>
              </a:rPr>
              <a:t>Международные медико-санитарные </a:t>
            </a:r>
            <a:br>
              <a:rPr sz="2800"/>
            </a:br>
            <a:r>
              <a:rPr b="0" lang="ru-RU" sz="2800" spc="-1" strike="noStrike">
                <a:solidFill>
                  <a:srgbClr val="66ff66"/>
                </a:solidFill>
                <a:latin typeface="Tahoma"/>
              </a:rPr>
              <a:t>правила 2005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действуют с 15.06.2007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08000" y="981000"/>
          <a:ext cx="8928000" cy="5486400"/>
        </p:xfrm>
        <a:graphic>
          <a:graphicData uri="http://schemas.openxmlformats.org/drawingml/2006/table">
            <a:tbl>
              <a:tblPr/>
              <a:tblGrid>
                <a:gridCol w="2951280"/>
                <a:gridCol w="5976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Случай заболевания является </a:t>
                      </a:r>
                      <a:r>
                        <a:rPr b="1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необычным или неожиданным </a:t>
                      </a: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и может оказать серьезное воздействие на здоровье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Ос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Полиомиелит, вызванный диким полиовирус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Человеческий грипп, вызванный новым подтип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Тяжелый острый респираторны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cdcb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Заболевания продемонстрировали способность оказывать серьезное воздействие на здоровье населения и </a:t>
                      </a:r>
                      <a:r>
                        <a:rPr b="1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быстро распространяться </a:t>
                      </a: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в международных масштаб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Хол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Легочная ч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Жёлтая лихорад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Лихорадка Эбо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Лихорадка Ла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Лихорадка Марбур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Лихорадка Западного Ни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5c1f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Другие болезни, вызывающие особую национальную и региональную обеспокоенность, например лихорадка денге, лихорадка Рифт-Валли, менингококковая болез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8e7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Любое</a:t>
                      </a:r>
                      <a:r>
                        <a:rPr b="0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 событие в области общественного здравоохранения, потенциально </a:t>
                      </a:r>
                      <a:r>
                        <a:rPr b="1" lang="ru-RU" sz="1800" spc="-1" strike="noStrike">
                          <a:solidFill>
                            <a:srgbClr val="5c1f00"/>
                          </a:solidFill>
                          <a:latin typeface="Tahoma"/>
                        </a:rPr>
                        <a:t>имеющее международное 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cd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0" name="Picture 2" descr="D:\PLebedev\LiterMed\Public Health\Международные медико-санитарные правила_2005_Page_01.jpg"/>
          <p:cNvPicPr/>
          <p:nvPr/>
        </p:nvPicPr>
        <p:blipFill>
          <a:blip r:embed="rId1"/>
          <a:stretch/>
        </p:blipFill>
        <p:spPr>
          <a:xfrm>
            <a:off x="6937200" y="2401920"/>
            <a:ext cx="212112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Человеческий грипп, вызванный новым подтип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тичий грипп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– впервые выявлен у человека  в 1997 г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нконг, Вьетнам, Таиланд и др. – 2004 г. Общее количество подтвержденных случаев грипп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А/H5N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реди людей в 2003 – 2014 гг. достигло 732, из них 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39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лучаях зарегистрирован летальный ис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Свиной грипп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– Грипп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А /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1N1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lifornia/04/2009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 Пандемия в 2009 -2010 гг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42560" y="620280"/>
            <a:ext cx="43527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ook Antiqua"/>
              </a:rPr>
              <a:t>3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типа</a:t>
            </a:r>
            <a:r>
              <a:rPr b="0" lang="en-GB" sz="20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ируса гриппа</a:t>
            </a:r>
            <a:r>
              <a:rPr b="0" lang="en-GB" sz="2000" spc="-1" strike="noStrike">
                <a:solidFill>
                  <a:srgbClr val="ffff00"/>
                </a:solidFill>
                <a:latin typeface="Book Antiqua"/>
              </a:rPr>
              <a:t>: A, B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en-GB" sz="2000" spc="-1" strike="noStrike">
                <a:solidFill>
                  <a:srgbClr val="ffff00"/>
                </a:solidFill>
                <a:latin typeface="Book Antiqua"/>
              </a:rPr>
              <a:t>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Грипп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 A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оражает множество видов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тицы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люди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виньи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лошади и т.д.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Дикие водоплавающие птицы – естественный резервуар вирусов гриппа 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Грипп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 B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GB" sz="2100" spc="-1" strike="noStrike">
                <a:solidFill>
                  <a:srgbClr val="ffffff"/>
                </a:solidFill>
                <a:latin typeface="Book Antiqua"/>
              </a:rPr>
              <a:t>C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оражает людей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Только вирусы гриппа типов А и В способны вызывать эпидемии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Грипп типа С встречается в виде спорадических случаев или небольших вспышек преимущественно среди детей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4648320" y="1203480"/>
            <a:ext cx="4038480" cy="450504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4714920" y="5950080"/>
            <a:ext cx="539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M. Zambon, Avian Influenza, Medicine, 34:6, 200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6:57:00Z</dcterms:created>
  <dc:creator>User</dc:creator>
  <dc:description/>
  <dc:language>en-US</dc:language>
  <cp:lastModifiedBy>user</cp:lastModifiedBy>
  <dcterms:modified xsi:type="dcterms:W3CDTF">2016-09-14T15:31:58Z</dcterms:modified>
  <cp:revision>588</cp:revision>
  <dc:subject/>
  <dc:title>Грипп и ОРВИ</dc:title>
</cp:coreProperties>
</file>