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wmf" ContentType="image/x-wmf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992-54CC-4B22-A604-8F2B108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168-343D-4E58-B041-E4E22DE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20B-87D5-4445-854C-E464888A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0DC-1E91-4F3E-9885-0CA2F7A0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08A-B9A8-4DBB-8848-2C204016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22B-2D4D-4A42-ABA7-63FB99D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A4A-72AB-48A8-B105-10D31B6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825-934A-4BE2-A9F2-023BC5B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273-FFB3-4920-9F21-F36B3ED0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0AE1-8579-4C66-B98C-7AD30ED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D2BF-46D5-4226-951E-EA9C603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2A3-F3A6-4FC7-A64B-13DFEE5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C21-89F4-4DE4-BAE8-964C257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2F2-D789-4B91-A665-7129349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433F-BF9D-4C20-91A0-D451E99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AB6-6E8B-432A-9431-EB8DA99C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80C-DD12-4138-B4C0-4ECC2DFC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B60-861A-46F7-8C0A-6E9EE95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67D-4B39-40F1-89AA-BB69B839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998-87A8-4106-A701-1DF5A54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E31-9835-4AB6-8787-D4A0636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A72-B8DB-4D47-82E1-EE8A343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303-0DF3-4F75-9815-F96881C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554-E5CE-4712-9535-C67973E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FAA-DAD9-40B1-B3EE-C5E13143F0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E03-EB70-479C-ACA0-A46F4F34C0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АКТУАЛЬНЫЕ ВОПРОСЫ АНТИБАКТЕРИАЛЬНОЙ ТЕРАПИИ В ПЕДИАТР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440" y="5638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33"/>
                </a:solidFill>
                <a:latin typeface="Tahoma"/>
              </a:rPr>
              <a:t>Детская краевая клиническая больница 2016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Гипертерм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2" descr="D:\Книги\картинки\700x467_0xd42ee42d_13379269711435877169.jpeg"/>
          <p:cNvPicPr/>
          <p:nvPr/>
        </p:nvPicPr>
        <p:blipFill>
          <a:blip r:embed="rId1"/>
          <a:stretch/>
        </p:blipFill>
        <p:spPr>
          <a:xfrm>
            <a:off x="1754280" y="1981080"/>
            <a:ext cx="616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Наиболее вероятный  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                возбудитель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1. Внебольничные микроорганизм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2. Госпитальная инфекция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Внебольничные микроорганизмы: Г+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2" descr="D:\Книги\картинки\56.jpg"/>
          <p:cNvPicPr/>
          <p:nvPr/>
        </p:nvPicPr>
        <p:blipFill>
          <a:blip r:embed="rId1"/>
          <a:stretch/>
        </p:blipFill>
        <p:spPr>
          <a:xfrm>
            <a:off x="457200" y="2666880"/>
            <a:ext cx="4305240" cy="3124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Стафилокок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D:\Книги\картинки\i9.jpeg"/>
          <p:cNvPicPr/>
          <p:nvPr/>
        </p:nvPicPr>
        <p:blipFill>
          <a:blip r:embed="rId2"/>
          <a:stretch/>
        </p:blipFill>
        <p:spPr>
          <a:xfrm>
            <a:off x="5029200" y="2666880"/>
            <a:ext cx="3733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1. Стрептококки 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(Streptococcus spp)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 ангина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стрептодермия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фарингит, бронхит, пневмония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 эндокардит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2. Стафилококки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 (Staph. aureus)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 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инфекции верхних дыхательных путей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инфекции кожи и мягких тканей (абсцессы, флегмоны)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 пневмонии (в т.ч. деструктивные)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остеомиелит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сепсис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Внебольничные микроорганизмы: Г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Кишечная пал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Гемофильная пал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D:\Книги\картинки\palochka3.jpg"/>
          <p:cNvPicPr/>
          <p:nvPr/>
        </p:nvPicPr>
        <p:blipFill>
          <a:blip r:embed="rId1"/>
          <a:stretch/>
        </p:blipFill>
        <p:spPr>
          <a:xfrm>
            <a:off x="762120" y="2666880"/>
            <a:ext cx="3581280" cy="335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:\Книги\картинки\i13.jpeg"/>
          <p:cNvPicPr/>
          <p:nvPr/>
        </p:nvPicPr>
        <p:blipFill>
          <a:blip r:embed="rId2"/>
          <a:stretch/>
        </p:blipFill>
        <p:spPr>
          <a:xfrm>
            <a:off x="5029200" y="26668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1. Кишечная палочка (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E. coli)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эшерихиозы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перитонит (вторичные)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пиелонефрит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2. Гемофильная палочка (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Haemophilus influenzae)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отит, синусит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инфекции верхних дыхательных путей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менинги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Госпитальная инфекция: Г+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MRSA, M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Enterococcus faec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D:\Книги\картинки\112.jpg"/>
          <p:cNvPicPr/>
          <p:nvPr/>
        </p:nvPicPr>
        <p:blipFill>
          <a:blip r:embed="rId1"/>
          <a:stretch/>
        </p:blipFill>
        <p:spPr>
          <a:xfrm>
            <a:off x="457200" y="251460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D:\Книги\картинки\энтерокакк фециум.jpg"/>
          <p:cNvPicPr/>
          <p:nvPr/>
        </p:nvPicPr>
        <p:blipFill>
          <a:blip r:embed="rId2"/>
          <a:stretch/>
        </p:blipFill>
        <p:spPr>
          <a:xfrm>
            <a:off x="4648320" y="2590920"/>
            <a:ext cx="4190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MRSA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инфекции кожи и мягких тканей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пневмонии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сепсис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MRSE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сосудистые инфекции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Enterococcus faecium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энтероколиты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-перитониты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Госпитальная инфекция Г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520" y="1981080"/>
            <a:ext cx="43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Klebsiella pneum. 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БЛР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D:\Книги\картинки\i11.jpeg"/>
          <p:cNvPicPr/>
          <p:nvPr/>
        </p:nvPicPr>
        <p:blipFill>
          <a:blip r:embed="rId1"/>
          <a:stretch/>
        </p:blipFill>
        <p:spPr>
          <a:xfrm>
            <a:off x="380880" y="2590920"/>
            <a:ext cx="419112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8006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Acinetobact.  baum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:\Книги\картинки\mtalib-baumannii-acinetobacter-2-1-638.jpg"/>
          <p:cNvPicPr/>
          <p:nvPr/>
        </p:nvPicPr>
        <p:blipFill>
          <a:blip r:embed="rId2"/>
          <a:stretch/>
        </p:blipFill>
        <p:spPr>
          <a:xfrm>
            <a:off x="4724280" y="259092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Госпитальная инфекция Г-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9810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Ps. aerugi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ahoma"/>
              </a:rPr>
              <a:t>Stenotr. maltophi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" descr="D:\Книги\картинки\i12.jpeg"/>
          <p:cNvPicPr/>
          <p:nvPr/>
        </p:nvPicPr>
        <p:blipFill>
          <a:blip r:embed="rId1"/>
          <a:stretch/>
        </p:blipFill>
        <p:spPr>
          <a:xfrm>
            <a:off x="457200" y="25909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:\Книги\картинки\Stenotrophamonas.jpeg"/>
          <p:cNvPicPr/>
          <p:nvPr/>
        </p:nvPicPr>
        <p:blipFill>
          <a:blip r:embed="rId2"/>
          <a:stretch/>
        </p:blipFill>
        <p:spPr>
          <a:xfrm>
            <a:off x="4724280" y="259092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385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ff33"/>
                </a:solidFill>
                <a:uFillTx/>
                <a:latin typeface="Tahoma"/>
              </a:rPr>
              <a:t>Антибиотики</a:t>
            </a:r>
            <a:r>
              <a:rPr b="1" lang="ru-RU" sz="40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– это уникальная, обширная группа ЛС синтетического или природного (биологического) происхождения, оказывающая избирательное губительное действие на микроорганиз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Грамотрицательная госпитальная флора вызывает пневмонии, третичные перитониты, сепсис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23880"/>
            <a:ext cx="857232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внебольничная  Г+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госпитальная  Г+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23880"/>
            <a:ext cx="857232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внебольнич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23880"/>
            <a:ext cx="857232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внебольнич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госпиталь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23880"/>
            <a:ext cx="8429400" cy="5181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госпиталь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госпиталь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4" descr=""/>
          <p:cNvPicPr/>
          <p:nvPr/>
        </p:nvPicPr>
        <p:blipFill>
          <a:blip r:embed="rId1"/>
          <a:stretch/>
        </p:blipFill>
        <p:spPr>
          <a:xfrm>
            <a:off x="214200" y="1523880"/>
            <a:ext cx="857268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Чувствительность к антибактериальным препаратам (госпитальная  Г- флора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81435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ействие антибио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30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Микробная кле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23720" y="1904760"/>
            <a:ext cx="572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Антибиот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Зависит от непосредственного взаимодействия   препарата с микробной клет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Graphic5"/>
          <p:cNvPicPr/>
          <p:nvPr/>
        </p:nvPicPr>
        <p:blipFill>
          <a:blip r:embed="rId1"/>
          <a:stretch/>
        </p:blipFill>
        <p:spPr>
          <a:xfrm>
            <a:off x="1066680" y="4267080"/>
            <a:ext cx="1400400" cy="172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Graphic6"/>
          <p:cNvPicPr/>
          <p:nvPr/>
        </p:nvPicPr>
        <p:blipFill>
          <a:blip r:embed="rId2"/>
          <a:stretch/>
        </p:blipFill>
        <p:spPr>
          <a:xfrm>
            <a:off x="4267080" y="1838160"/>
            <a:ext cx="4038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     </a:t>
            </a: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Необходима ли</a:t>
            </a:r>
            <a:r>
              <a:rPr b="1" lang="en-US" sz="36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комбинация  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                 антибиотиков?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1) с какой инфекцией мы боремся?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2) состояние пациента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3) а/б узкого спектра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4. а/б широкого спектр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55168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Picture 2" descr="C:\Users\farm_3\Desktop\сканы\совместимость антибиотиков.jpeg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Особенности больного:</a:t>
            </a:r>
            <a:br>
              <a:rPr sz="4400"/>
            </a:b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- возраст</a:t>
            </a:r>
            <a:br>
              <a:rPr sz="4400"/>
            </a:b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- состояние иммунитета</a:t>
            </a:r>
            <a:br>
              <a:rPr sz="4400"/>
            </a:b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- хроническая сопутствующая патология</a:t>
            </a:r>
            <a:br>
              <a:rPr sz="4400"/>
            </a:b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- аллергоанамнез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Пути введения антибиотика 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92d050"/>
                </a:solidFill>
                <a:latin typeface="Tahoma"/>
              </a:rPr>
              <a:t>наиболее часто встречающиеся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</a:rPr>
              <a:t>)</a:t>
            </a: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Внут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Парентерально (в/м, в/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Ингаляцион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Мест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Наилучший путь введения</a:t>
            </a:r>
            <a:br>
              <a:rPr sz="3200"/>
            </a:b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амбулаторно:</a:t>
            </a:r>
            <a:br>
              <a:rPr sz="3200"/>
            </a:br>
            <a:br>
              <a:rPr sz="3200"/>
            </a:b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Существует миф: парентеральное введение антибиотика более эффективно. Это касается лишь групп пациентов в тяжёлом состоянии, т.е. стационарных больных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В амбулаторной практике парентеральное введение препарата лишь в исключительных случаях!!!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:\Книги\картинки\i11.jpeg"/>
          <p:cNvPicPr/>
          <p:nvPr/>
        </p:nvPicPr>
        <p:blipFill>
          <a:blip r:embed="rId1"/>
          <a:stretch/>
        </p:blipFill>
        <p:spPr>
          <a:xfrm>
            <a:off x="990720" y="692280"/>
            <a:ext cx="71625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:\Книги\картинки\ребенок плачет.jpeg"/>
          <p:cNvPicPr/>
          <p:nvPr/>
        </p:nvPicPr>
        <p:blipFill>
          <a:blip r:embed="rId1"/>
          <a:stretch/>
        </p:blipFill>
        <p:spPr>
          <a:xfrm>
            <a:off x="485640" y="914400"/>
            <a:ext cx="8172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Наилучший путь введения</a:t>
            </a:r>
            <a:br>
              <a:rPr sz="36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В стационаре: у пациентов со средней степенью тяжести состояния -индивидуальный подход;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пациентам в тяжёлом состоянии предпочтительно в/в введение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Отмена антибактериальной терапии производится по следующим критериям:</a:t>
            </a: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31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2-3 дня нормальной температуры 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отсутствие интоксик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стабильность гемодинамики и дых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положительная динамика основных симптомов инфек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нормализация ОАК, СР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Ошибки антибактериальной терапии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использование неэффективного антибио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недостаточная или избыточная д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применение при вирусной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введение препарата неправильным путё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продолжение приёма препарата после развития резистент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преждевременное прекращение эффективной терап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неправильное сочетание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Тенденции современной антибактериальной терапи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00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щадящие режим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ступенчатая терап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ahoma"/>
              </a:rPr>
              <a:t>Миф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антибиотики являются противовирусными сред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антибиотики предотвращают развитие бактериальных осложнений у пациентов с вирусной инфек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антибиотики следует менять каждые       7-10 дн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Причины неэффективности антибактериальной терапии:</a:t>
            </a:r>
            <a:r>
              <a:rPr b="1" lang="ru-RU" sz="4800" spc="-1" strike="noStrike">
                <a:solidFill>
                  <a:srgbClr val="92d050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инфекционный процесс вызван небактериальными возбудителями (вирусы, гриб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осуществлён неправильный выбор антибиотика без учёта фармакодинамики и фармакокинетики (возбудитель природно устойчив к нему или препарат не может проникнуть в органы или ткани, где находится оча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случаи резистентности возбудителя </a:t>
            </a:r>
            <a:r>
              <a:rPr b="1" lang="en-US" sz="2800" spc="-1" strike="noStrike">
                <a:solidFill>
                  <a:srgbClr val="92d050"/>
                </a:solidFill>
                <a:latin typeface="Tahoma"/>
              </a:rPr>
              <a:t>in vivo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при удовлетворительной чувствительности </a:t>
            </a:r>
            <a:r>
              <a:rPr b="1" lang="en-US" sz="2800" spc="-1" strike="noStrike">
                <a:solidFill>
                  <a:srgbClr val="92d050"/>
                </a:solidFill>
                <a:latin typeface="Tahoma"/>
              </a:rPr>
              <a:t>in vi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развитие резистентности возбудителя в течение курса терапии (туберкулё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- НЕАДЕКВАТНАЯ КРАТНОСТЬ  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ВВЕДЕНИЯ ПРЕПАРА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- ИММУНОДЕФИЦИ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- ИНТОКСИКАЦИЯ ВЫЗВАНА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НЕИНФЕКЦИОННЫМ АГЕНТОМ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(НОВООБРАЗОВАНИЕ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- ТРЕБУЕТСЯ ХИРУРГИЧЕСКОЕ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ДРЕНИРОВАНИЕ ОЧАГА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Tahoma"/>
              </a:rPr>
              <a:t>   ИНФЕКЦИИ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Причины неэффективности антибактериальной терапи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Антибиотики не являютс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противовирусными средств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жаропонижающими средств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противовоспалительными средств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«седативными» средств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Спасибо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2" descr="D:\Книги\картинки\f_47951.jpg"/>
          <p:cNvPicPr/>
          <p:nvPr/>
        </p:nvPicPr>
        <p:blipFill>
          <a:blip r:embed="rId1"/>
          <a:stretch/>
        </p:blipFill>
        <p:spPr>
          <a:xfrm>
            <a:off x="1066680" y="990720"/>
            <a:ext cx="746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опросы каждого врача перед тем, как назначить антибиотики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Есть ли клинические показания к назначению антибиот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Наиболее вероятный возбуд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Необходима ли комбинация антибиот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Какие особенности больного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Наилучший путь введ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Как долго продолжать антибактериальную терапи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Есть ли клинические показания к назначению антибиотиков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Picture 4" descr="D:\Книги\картинки\14.jpeg"/>
          <p:cNvPicPr/>
          <p:nvPr/>
        </p:nvPicPr>
        <p:blipFill>
          <a:blip r:embed="rId1"/>
          <a:stretch/>
        </p:blipFill>
        <p:spPr>
          <a:xfrm>
            <a:off x="1295280" y="185436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Красное горлышк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Picture 2" descr="D:\Книги\картинки\i15.jpeg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Ринит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2" descr="D:\Книги\картинки\Sinusit-u-rebenka-simptomy-i-lechenie-768x537.jpg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</a:rPr>
              <a:t>Кашел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2" descr="D:\Книги\картинки\12.jpeg"/>
          <p:cNvPicPr/>
          <p:nvPr/>
        </p:nvPicPr>
        <p:blipFill>
          <a:blip r:embed="rId1"/>
          <a:stretch/>
        </p:blipFill>
        <p:spPr>
          <a:xfrm>
            <a:off x="2590920" y="1219320"/>
            <a:ext cx="4038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0:48:43Z</dcterms:created>
  <dc:creator>Farmokolog</dc:creator>
  <dc:description/>
  <dc:language>en-US</dc:language>
  <cp:lastModifiedBy>farm_3</cp:lastModifiedBy>
  <dcterms:modified xsi:type="dcterms:W3CDTF">2016-09-15T03:49:14Z</dcterms:modified>
  <cp:revision>106</cp:revision>
  <dc:subject/>
  <dc:title>ОПТИМИЗАЦИЯ АНТИБАКТЕРИАЛЬНОЙ ТЕРАПИИ В ПЕДИАТРИИ: СОВРЕМЕННЫЕ ТЕНДЕНЦИИ</dc:title>
</cp:coreProperties>
</file>